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074-1036-40BA-B859-E2A3367C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D5D-EE38-46D3-BB05-6A301F36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439-C779-4F6A-96C3-48538F99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3EE-6D2E-495A-AB46-E76802BD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7C1-43BE-4EF5-BD79-4A4E9779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5E9-E4FB-435D-A8C1-3041EC71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B83-86A5-4288-87F5-B1FF13F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78C-1CF4-4359-A2EB-BA7FF08A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C3B-5342-4C34-94E8-840D73C6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7AC-AFF7-4503-B8BB-C00DCB11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CE6-C607-4CB7-94B9-625BB886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151-1604-4DB1-87D4-C5CE376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E715-37B8-430E-9D39-C38A49C556F9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01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266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Worksplitproposal TPM E &lt;-&gt; TPM 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(Variantmanagement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4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TPM  B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Worksplit per Region and Timezone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200" y="6103800"/>
            <a:ext cx="51444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6110280"/>
            <a:ext cx="514440" cy="138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6110280"/>
            <a:ext cx="514440" cy="13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6320" y="600408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ost reaso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11840" y="6064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ot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6960" y="6004080"/>
            <a:ext cx="66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883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 Work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765000"/>
            <a:ext cx="39196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Asia takes over additional responsibility for E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necessary Resources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Europe keeps responsibilty for WE and L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cessary Resources: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ore equal workspl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ax 5 hours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TMO, Orange, VF Consortia are present in W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EE =&gt; two different contacts (TPM Asia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TPM Europe) for one country for the sam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product: i. .e. 1 x Retail = EE, TMO = 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mploy Staff, Training and Know How Transfer needs some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765000"/>
            <a:ext cx="3919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ve it as i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cesses and skills ar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s are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unty specic requirements can be easily 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transfered to consortia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p to 10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Unequal workload between TPM Europe and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52640"/>
            <a:ext cx="814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69228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2680" y="5932440"/>
            <a:ext cx="83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mark: These Alternatives are not relevant for GPM. GPM- Topics are Product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ommon Working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4076640" cy="193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357720"/>
            <a:ext cx="4076640" cy="141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olger Asmussen</cp:lastModifiedBy>
  <dcterms:modified xsi:type="dcterms:W3CDTF">2006-03-28T12:46:58Z</dcterms:modified>
  <cp:revision>137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9298984</vt:r8>
  </property>
  <property fmtid="{D5CDD505-2E9C-101B-9397-08002B2CF9AE}" pid="3" name="_AuthorEmail">
    <vt:lpwstr>Brigitte.Flierl@BenQ.com</vt:lpwstr>
  </property>
  <property fmtid="{D5CDD505-2E9C-101B-9397-08002B2CF9AE}" pid="4" name="_AuthorEmailDisplayName">
    <vt:lpwstr>Brigitte Flierl</vt:lpwstr>
  </property>
  <property fmtid="{D5CDD505-2E9C-101B-9397-08002B2CF9AE}" pid="5" name="_EmailSubject">
    <vt:lpwstr>Folien/Infos zu Variantenaufteilung</vt:lpwstr>
  </property>
  <property fmtid="{D5CDD505-2E9C-101B-9397-08002B2CF9AE}" pid="6" name="_ReviewingToolsShownOnce">
    <vt:lpwstr/>
  </property>
</Properties>
</file>